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010-2DC1-4C68-A475-F200D55C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F62-83EC-4F30-9F70-3514A52E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EF4-FA0C-450D-ACCE-33731172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CCE-56D6-4475-8CE8-35EDD5B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D18-F1B8-4DA8-89C6-E9BA1356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52E9-98B0-4877-816D-2716ED8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6E2-DB93-47AA-94B3-DA54418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6AF-D00F-40B2-9E1C-C154014D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F9D-63D2-48B8-B7C4-C22F03E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8D60-6005-4B54-8F0C-BE15F1A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596D-5987-491E-B62E-6970C1B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F3D-6AC4-4090-B7A4-E6084FD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9BDA-CC53-44E3-BFD5-EF45B50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DCA6-CCED-4A59-8CD6-2F174C5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BD10-6BEC-42BA-9874-D40B59C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0899-B4BA-4782-AFEA-DE404F11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2C00-F5BA-42E1-8A3D-2C7DA68D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0F7-E48C-4B91-82B5-DDC3DC3F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A50-37EF-4368-8E9B-B9FBD973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194-8DC6-4310-8922-61939FB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C14-EE98-4190-A197-D186EE5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489-FA42-473A-9DCF-1F155D8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2EB-A360-487B-8222-8A64A40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D3A-419A-47C2-87BE-C58C92F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1A40-F831-4792-964F-E9C0A4BEC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FCA-A2BD-4D41-9841-78C8BC392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72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6: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Impact on Employment 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jobs have been eliminated due to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jobs that were once considered high-skill jobs are now low-skill due to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new jobs have been created because of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Dispersal and Telecommu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comm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at home using a computer electronically linked to one's place of em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office using a laptop, working out of your car or at custome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time and part-time telecomm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Dispersal and Telecommuting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overhead for empl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need for large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s are more productive, satisfied, and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traffic congestion, pollution, gasoline use, and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expenses for commuting and money spent on work clot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work to continue after blizzards, hurrica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Dispersal and Telecommuting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s see resentment from those who have to work at the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ome telecommuting employees, corporation loyalty wea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d work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for office space has shifted to the employ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risks when work and personal activities reside on the same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Structure of Busin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smaller businesses and independent consultants (‘information entrepreneurs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m and pop multi-nationals’, small businesses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of large, multi-national corp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changes due to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Work Environment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want to telecommute? 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s technology made entrepreneurship easier?  Hard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Crime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zzlement - fraudulent appropriation of property by a person to whom it has been entru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ed employees have stolen millions of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ry fired employees sabotage compan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 bomb - software that destroys critical files (payroll and inventory records) after employee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is not 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monitoring was mostly ‘blue-collar’ (factory) and ‘pink-collar’ (telephone and clerical)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clocks and 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counts at the end of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ses patrolled the aisles watching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try, Phone Work, and Retai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stroke q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p when workers 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and duration of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le time between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ly listen in on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 to reduce theft by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Monitor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s and badges used as electronic keys increase security but track employee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tracks an employee's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some hospitals to track nurse locations for emergency purposes, also shows where they are at lunch or when they use the bath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track long-haul trucks to reduce theft and optimize delivery schedules, also detects driving speeds and duration of rest 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s often complain of loss of priv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s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act on 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e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e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and voice mail at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often assume passwords mean they are 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ly half of major companies in the U.S. monitor or search employee e-mail, voice mail, or computer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anies monitor infrequently, some routinely intercept all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an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Communications Privacy Act (ECPA) prohibits interception of e-mail and reading stored e-mail without a court order, but makes an exception for busines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ts put heavy weight on the fact that computers, mail, and phone systems are owned by the employer who provides them for business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and cases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ts have ruled against monitoring done to snoop on personal and union activities or to track down whistle b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employers have privacy policies regarding e-mail and voice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tional Labor Relation Board (NLRB) sets rules and decides cases about worker-employer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mpanies block specific sites (e.g. adult content, sports sites, job search sites, social-network si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spend time on non-work activities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over security threats such as viruses and other malicio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about inappropriate activities by employees (e.g., harassment, unprofessional com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Employee Monitoring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privacy is reasonable for an employee to expect in the workpl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what circumstances is it appropriate for an employer to read an employee's e-mai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ears and Questions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troduction of computers in the workplace generated many f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unemployment due to increased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ed for increased skill and training widens the earning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rends still generating f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horing of jobs will lead to mass 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s use of technology to monitor their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Impact on Employment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Creation and destru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ccessful technology eliminates or reduces some jobs but creates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the need for telephone operators, meter readers, mid-level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industries a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ular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prices increase demand and create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industry changed from serving the wealthy to serving the masses, employing more than just musici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Creation and destru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mployment rates fluct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of computers has been steady,  while unemployment has fluctuated wid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earning l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1970s, wages decreased but fringe benefits 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 fewer hours since the Industrial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 in take-home pay may be due to other factors (e.g. increased tax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ing power increases as prices f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Skill Lev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 jobs created from computers are different from the jobs elim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jobs such as computer engineer and system analyst jobs require a college degree, where jobs such as bank tellers, customer service representatives and clerks do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are more willing to hire people without specific skills when they can train new people quickly and use automated suppor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lobal Workfor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ourcing - phenomenon where a company pays another company to build parts for its products or services instead of performing those tasks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horing - the practice of moving business processes or services to another country, especially overseas, to reduce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horing - when another company employs thousands of people in the U.S. (e.g. offshoring for a German company means inshoring for U.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5% of U.S. workers are employed by foreign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lobal Workforc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and side effects of offsho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complain about customer service representatives, because accents are difficult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in U.S. companies need new job skills (e.g., managing, working with foreign colleag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mand for high-skill workers in other countries forces salarie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a Jo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about jobs and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company histories and annual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search and resume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about applicants and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online newsgroups and soci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re data-collection agencies such as Choice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pective employees may craft an online profile and presence geared towards the job they w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02:54:41Z</dcterms:modified>
  <cp:revision>47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